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3.wmf" ContentType="image/x-wmf"/>
  <Override PartName="/ppt/media/image23.wmf" ContentType="image/x-wmf"/>
  <Override PartName="/ppt/media/image22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png" ContentType="image/png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12193588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65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65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717120" y="1162080"/>
            <a:ext cx="5575320" cy="3137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3240" rIns="93240" tIns="46440" bIns="464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95959"/>
                </a:solidFill>
                <a:latin typeface="Calibri"/>
              </a:rPr>
              <a:t>Click to move the slide</a:t>
            </a: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701280" y="4473720"/>
            <a:ext cx="5607000" cy="36604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65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65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E8409-0EDB-4D34-A709-FAFB026429FF}" type="slidenum"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717480" y="1162080"/>
            <a:ext cx="5575320" cy="313704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701280" y="4473720"/>
            <a:ext cx="5607000" cy="36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Espaço Reservado para Número de Slide 3"/>
          <p:cNvSpPr/>
          <p:nvPr/>
        </p:nvSpPr>
        <p:spPr>
          <a:xfrm>
            <a:off x="3970440" y="8829720"/>
            <a:ext cx="30384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BAB56-7992-4466-995E-63FE7522A8EB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717480" y="1162080"/>
            <a:ext cx="5575320" cy="313704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701280" y="4473720"/>
            <a:ext cx="5607000" cy="36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Espaço Reservado para Número de Slide 3"/>
          <p:cNvSpPr/>
          <p:nvPr/>
        </p:nvSpPr>
        <p:spPr>
          <a:xfrm>
            <a:off x="3970440" y="8829720"/>
            <a:ext cx="30384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5A76D-E6AB-48CF-A35A-255DFE650987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717480" y="1162080"/>
            <a:ext cx="5575320" cy="31370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701280" y="4473720"/>
            <a:ext cx="5607000" cy="36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Espaço Reservado para Número de Slide 3"/>
          <p:cNvSpPr/>
          <p:nvPr/>
        </p:nvSpPr>
        <p:spPr>
          <a:xfrm>
            <a:off x="3970440" y="8829720"/>
            <a:ext cx="30384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C7F2F-A0A3-4057-A208-DB44F606B9D6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717480" y="1162080"/>
            <a:ext cx="5575320" cy="313704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701280" y="4473720"/>
            <a:ext cx="5607000" cy="36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Espaço Reservado para Número de Slide 3"/>
          <p:cNvSpPr/>
          <p:nvPr/>
        </p:nvSpPr>
        <p:spPr>
          <a:xfrm>
            <a:off x="3970440" y="8829720"/>
            <a:ext cx="30384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E1B1D-BB19-474E-9AC8-E46294DD3254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717480" y="1162080"/>
            <a:ext cx="5575320" cy="31370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701280" y="4473720"/>
            <a:ext cx="5607000" cy="36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Espaço Reservado para Número de Slide 3"/>
          <p:cNvSpPr/>
          <p:nvPr/>
        </p:nvSpPr>
        <p:spPr>
          <a:xfrm>
            <a:off x="3970440" y="8829720"/>
            <a:ext cx="30384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F3B57-25F1-4F8F-A4DE-05A321976946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717480" y="1162080"/>
            <a:ext cx="5575320" cy="31370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701280" y="4473720"/>
            <a:ext cx="5607000" cy="36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Espaço Reservado para Número de Slide 3"/>
          <p:cNvSpPr/>
          <p:nvPr/>
        </p:nvSpPr>
        <p:spPr>
          <a:xfrm>
            <a:off x="3970440" y="8829720"/>
            <a:ext cx="30384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7C5EF-29B2-4A4A-BC0C-8833BA10FFC7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717480" y="1162080"/>
            <a:ext cx="5575320" cy="313704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701280" y="4473720"/>
            <a:ext cx="5607000" cy="36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Espaço Reservado para Número de Slide 3"/>
          <p:cNvSpPr/>
          <p:nvPr/>
        </p:nvSpPr>
        <p:spPr>
          <a:xfrm>
            <a:off x="3970440" y="8829720"/>
            <a:ext cx="30384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DC3A9-B9E7-4604-9437-FD893F81572B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717480" y="1162080"/>
            <a:ext cx="5575320" cy="313704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701280" y="4473720"/>
            <a:ext cx="5607000" cy="36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Espaço Reservado para Número de Slide 3"/>
          <p:cNvSpPr/>
          <p:nvPr/>
        </p:nvSpPr>
        <p:spPr>
          <a:xfrm>
            <a:off x="3970440" y="8829720"/>
            <a:ext cx="30384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078E8-34D4-4CD4-B41B-1B5F6A76C46D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717480" y="1162080"/>
            <a:ext cx="5575320" cy="313704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701280" y="4473720"/>
            <a:ext cx="5607000" cy="36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Espaço Reservado para Número de Slide 3"/>
          <p:cNvSpPr/>
          <p:nvPr/>
        </p:nvSpPr>
        <p:spPr>
          <a:xfrm>
            <a:off x="3970440" y="8829720"/>
            <a:ext cx="30384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D8773-9704-441F-8B1E-CE00AA5FAEBC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717480" y="1162080"/>
            <a:ext cx="5575320" cy="31370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701280" y="4473720"/>
            <a:ext cx="5607000" cy="36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Espaço Reservado para Número de Slide 3"/>
          <p:cNvSpPr/>
          <p:nvPr/>
        </p:nvSpPr>
        <p:spPr>
          <a:xfrm>
            <a:off x="3970440" y="8829720"/>
            <a:ext cx="30384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713B1-A00F-420B-A7A3-61D9BDE09391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717480" y="1162080"/>
            <a:ext cx="5575320" cy="313704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701280" y="4473720"/>
            <a:ext cx="5607000" cy="36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Espaço Reservado para Número de Slide 3"/>
          <p:cNvSpPr/>
          <p:nvPr/>
        </p:nvSpPr>
        <p:spPr>
          <a:xfrm>
            <a:off x="3970440" y="8829720"/>
            <a:ext cx="30384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27FD0-0BE0-4963-81A0-65A19CC56463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C99B2-6904-467D-8820-A235562C3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598E9-68CE-46DC-A79D-BFFB03520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7EF79-C1AF-46FF-BFFD-B397C5D38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47D02-A664-429C-892C-2A131E857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3CAE4-DFD3-4EFC-A6A3-57AFD5683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312CA-9978-454F-BAB6-C4F009F31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BC3D6-7351-454F-8421-D864F0BED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4974B-39AF-46C3-9491-83CB6C15D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B10E0-9F8A-4E68-AB7A-FC9924F03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3E0F1-4529-444C-821E-B23DCF105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55FEC-0B8A-42FD-B353-2CFB5309E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8F31C-02AC-4A45-9355-DE9DF55DB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Imagem 7" descr=""/>
          <p:cNvPicPr/>
          <p:nvPr/>
        </p:nvPicPr>
        <p:blipFill>
          <a:blip r:embed="rId2"/>
          <a:stretch/>
        </p:blipFill>
        <p:spPr>
          <a:xfrm>
            <a:off x="7732800" y="6045120"/>
            <a:ext cx="4286160" cy="676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95959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7CC89-FD6F-48CA-8F5A-7A39B821BF10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Imagem 2" descr=""/>
          <p:cNvPicPr/>
          <p:nvPr/>
        </p:nvPicPr>
        <p:blipFill>
          <a:blip r:embed="rId1"/>
          <a:stretch/>
        </p:blipFill>
        <p:spPr>
          <a:xfrm>
            <a:off x="0" y="-792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200" y="230040"/>
            <a:ext cx="8040960" cy="126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ffff"/>
                </a:solidFill>
                <a:latin typeface="Calibri"/>
              </a:rPr>
              <a:t>RESULTADO DO REGIME GERAL DE PREVIDÊNCIA SOCIAL – RGPS </a:t>
            </a:r>
            <a:endParaRPr b="1" lang="en-US" sz="4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1" name="Retângulo 3"/>
          <p:cNvSpPr/>
          <p:nvPr/>
        </p:nvSpPr>
        <p:spPr>
          <a:xfrm>
            <a:off x="8253360" y="230040"/>
            <a:ext cx="3641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ffff"/>
                </a:solidFill>
                <a:latin typeface="Calibri"/>
              </a:rPr>
              <a:t>2018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4"/>
          <p:cNvSpPr/>
          <p:nvPr/>
        </p:nvSpPr>
        <p:spPr>
          <a:xfrm>
            <a:off x="198360" y="4549680"/>
            <a:ext cx="3409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alibri"/>
              </a:rPr>
              <a:t>SECRETARIA DE PREVIDÊNC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alibri"/>
              </a:rPr>
              <a:t>Subsecretaria do Regime Geral de Previdência Soci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3"/>
          <p:cNvSpPr/>
          <p:nvPr/>
        </p:nvSpPr>
        <p:spPr>
          <a:xfrm>
            <a:off x="136440" y="195120"/>
            <a:ext cx="116031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rrecadação Líquida, Despesa com Benefícios e Resultado Previdenciário – </a:t>
            </a:r>
            <a:r>
              <a:rPr b="1" lang="pt-BR" sz="1600" spc="-1" strike="noStrike" u="sng">
                <a:solidFill>
                  <a:srgbClr val="cc0000"/>
                </a:solidFill>
                <a:uFillTx/>
                <a:latin typeface="Arial"/>
                <a:ea typeface="Times New Roman"/>
              </a:rPr>
              <a:t>RURA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Dezembro/2017, Novembro e Dezembro de 2018 e Acumulado no ano (2017 e 2018) – Em R$ milhões de dezembro/2018 (INPC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334800" y="638172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onte: Fluxo de Caixa INSS; Informar/DATAPREV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ção: SPREV/MECON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Imagem 1" descr=""/>
          <p:cNvPicPr/>
          <p:nvPr/>
        </p:nvPicPr>
        <p:blipFill>
          <a:blip r:embed="rId1"/>
          <a:stretch/>
        </p:blipFill>
        <p:spPr>
          <a:xfrm>
            <a:off x="136440" y="982800"/>
            <a:ext cx="11844360" cy="50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2"/>
          <p:cNvSpPr/>
          <p:nvPr/>
        </p:nvSpPr>
        <p:spPr>
          <a:xfrm>
            <a:off x="2135160" y="1052640"/>
            <a:ext cx="799308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TENDÊNCIAS ARRECADAÇÃO, DESPESA E RESULTAD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EVOLUÇÃO TEMPORA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2"/>
          <p:cNvSpPr/>
          <p:nvPr/>
        </p:nvSpPr>
        <p:spPr>
          <a:xfrm>
            <a:off x="0" y="6458040"/>
            <a:ext cx="5562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onte: Fluxo de Caixa INSS; Informar/DATAPREV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ção: SPREV/MECON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3"/>
          <p:cNvSpPr/>
          <p:nvPr/>
        </p:nvSpPr>
        <p:spPr>
          <a:xfrm>
            <a:off x="371520" y="154080"/>
            <a:ext cx="96249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rrecadação Líquida, Despesa com Benefícios e Resultado Previdenciári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Acumulado de Janeiro a Dezembro (2003 a 2018)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– Em R$ Bilhões nominai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Imagem 1" descr=""/>
          <p:cNvPicPr/>
          <p:nvPr/>
        </p:nvPicPr>
        <p:blipFill>
          <a:blip r:embed="rId1"/>
          <a:stretch/>
        </p:blipFill>
        <p:spPr>
          <a:xfrm>
            <a:off x="0" y="649440"/>
            <a:ext cx="12192120" cy="53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2"/>
          <p:cNvSpPr/>
          <p:nvPr/>
        </p:nvSpPr>
        <p:spPr>
          <a:xfrm>
            <a:off x="609480" y="212760"/>
            <a:ext cx="96249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rrecadação Líquida, Despesa com Benefícios e Resultado Previdenciári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cumulado de Janeiro a Dezembro (2003 a 2018) – Em R$ Bilhões de dezembro/2018 (INPC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19080" y="6453360"/>
            <a:ext cx="3529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onte: Fluxo de Caixa INSS; Informar/DATAPREV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ção: SPREV/MECON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Imagem 1" descr=""/>
          <p:cNvPicPr/>
          <p:nvPr/>
        </p:nvPicPr>
        <p:blipFill>
          <a:blip r:embed="rId1"/>
          <a:stretch/>
        </p:blipFill>
        <p:spPr>
          <a:xfrm>
            <a:off x="19080" y="709560"/>
            <a:ext cx="12144240" cy="520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2"/>
          <p:cNvSpPr/>
          <p:nvPr/>
        </p:nvSpPr>
        <p:spPr>
          <a:xfrm>
            <a:off x="7920" y="6432480"/>
            <a:ext cx="5562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Nota: PIB 2018 estimado de acordo com a Grade de Parâmetros da SPE/MECON de 01/2019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onte: Fluxo de Caixa INSS; Informar/DATAPREV.   Elaboração: SPREV/MECON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Rectangle 3"/>
          <p:cNvSpPr/>
          <p:nvPr/>
        </p:nvSpPr>
        <p:spPr>
          <a:xfrm>
            <a:off x="130320" y="85680"/>
            <a:ext cx="108806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Arrecadação Líquida, Despesa com Benefícios e Resultado Previdenciário em relação ao PIB (Em %) – 2003 a 2018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Imagem 1" descr=""/>
          <p:cNvPicPr/>
          <p:nvPr/>
        </p:nvPicPr>
        <p:blipFill>
          <a:blip r:embed="rId1"/>
          <a:stretch/>
        </p:blipFill>
        <p:spPr>
          <a:xfrm>
            <a:off x="0" y="857160"/>
            <a:ext cx="12136320" cy="511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2"/>
          <p:cNvSpPr/>
          <p:nvPr/>
        </p:nvSpPr>
        <p:spPr>
          <a:xfrm>
            <a:off x="0" y="222120"/>
            <a:ext cx="109648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rrecadação Líquida, Despesa com Benefícios e Resultado Previdenciário – </a:t>
            </a:r>
            <a:r>
              <a:rPr b="1" lang="pt-BR" sz="1600" spc="-1" strike="noStrike" u="sng">
                <a:solidFill>
                  <a:srgbClr val="cc0000"/>
                </a:solidFill>
                <a:uFillTx/>
                <a:latin typeface="Arial"/>
                <a:ea typeface="Times New Roman"/>
              </a:rPr>
              <a:t>URBAN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cumulado de Janeiro a Dezembro (2003 a 2018) – Em R$ Bilhões de Dezembro/2018 (INPC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 Box 3"/>
          <p:cNvSpPr/>
          <p:nvPr/>
        </p:nvSpPr>
        <p:spPr>
          <a:xfrm>
            <a:off x="109440" y="6175440"/>
            <a:ext cx="6634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onte: Fluxo de Caixa INSS; Informar/DATAPREV.  Elaboração: SPREV/MECON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Nota: De 2009 a 2015, ocorreu superávit na área urbana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Imagem 1" descr=""/>
          <p:cNvPicPr/>
          <p:nvPr/>
        </p:nvPicPr>
        <p:blipFill>
          <a:blip r:embed="rId1"/>
          <a:stretch/>
        </p:blipFill>
        <p:spPr>
          <a:xfrm>
            <a:off x="0" y="898560"/>
            <a:ext cx="12192120" cy="510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3"/>
          <p:cNvSpPr/>
          <p:nvPr/>
        </p:nvSpPr>
        <p:spPr>
          <a:xfrm>
            <a:off x="27000" y="247680"/>
            <a:ext cx="119505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rrecadação Líquida, Despesa com Benefícios e Resultado Previdenciário em relação ao PIB (Em %) – 2003 a 2018 – </a:t>
            </a:r>
            <a:r>
              <a:rPr b="1" lang="pt-BR" sz="1600" spc="-1" strike="noStrike" u="sng">
                <a:solidFill>
                  <a:srgbClr val="cc0000"/>
                </a:solidFill>
                <a:uFillTx/>
                <a:latin typeface="Arial"/>
                <a:ea typeface="Times New Roman"/>
              </a:rPr>
              <a:t>URBAN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 Box 2"/>
          <p:cNvSpPr/>
          <p:nvPr/>
        </p:nvSpPr>
        <p:spPr>
          <a:xfrm>
            <a:off x="27000" y="6048360"/>
            <a:ext cx="7593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onte: Fluxo de Caixa INSS; Informar/DATAPREV.– Elaboração: SPREV/MECON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Nota: 1. PIB 2018 estimado de acordo com a Grade de Parâmetros da SPE/MECON de 01/2019.   2. De 2009 a 2015, ocorreu superávit na área  urbana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Imagem 1" descr=""/>
          <p:cNvPicPr/>
          <p:nvPr/>
        </p:nvPicPr>
        <p:blipFill>
          <a:blip r:embed="rId1"/>
          <a:stretch/>
        </p:blipFill>
        <p:spPr>
          <a:xfrm>
            <a:off x="27000" y="901800"/>
            <a:ext cx="12045960" cy="49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2"/>
          <p:cNvSpPr/>
          <p:nvPr/>
        </p:nvSpPr>
        <p:spPr>
          <a:xfrm>
            <a:off x="33480" y="6426360"/>
            <a:ext cx="5562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onte: Fluxo de Caixa INSS; Informar/DATAPREV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ção: SPREV/MECON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33480" y="88920"/>
            <a:ext cx="110376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rrecadação Líquida, Despesa com Benefícios e Resultado Previdenciário – </a:t>
            </a:r>
            <a:r>
              <a:rPr b="1" lang="pt-BR" sz="1600" spc="-1" strike="noStrike" u="sng">
                <a:solidFill>
                  <a:srgbClr val="cc0000"/>
                </a:solidFill>
                <a:uFillTx/>
                <a:latin typeface="Arial"/>
                <a:ea typeface="Times New Roman"/>
              </a:rPr>
              <a:t>RURA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cumulado de Janeiro a Dezembro (2003 a 2018) – Em R$ Bilhões de dezembro/2018 (INPC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Imagem 1" descr=""/>
          <p:cNvPicPr/>
          <p:nvPr/>
        </p:nvPicPr>
        <p:blipFill>
          <a:blip r:embed="rId1"/>
          <a:stretch/>
        </p:blipFill>
        <p:spPr>
          <a:xfrm>
            <a:off x="33480" y="749160"/>
            <a:ext cx="12039480" cy="530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2"/>
          <p:cNvSpPr/>
          <p:nvPr/>
        </p:nvSpPr>
        <p:spPr>
          <a:xfrm>
            <a:off x="0" y="6456240"/>
            <a:ext cx="5562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Nota: PIB 2018 estimado de acordo com a Grade de Parâmetros da SPE/MECON de 01/2019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onte: Fluxo de Caixa INSS; Informar/DATAPREV.  Elaboração: SPREV/MECON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0" y="139680"/>
            <a:ext cx="120348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rrecadação Líquida, Despesa com Benefícios e Resultado Previdenciário em relação ao PIB (Em %) – 2003 a 2018 – </a:t>
            </a:r>
            <a:r>
              <a:rPr b="1" lang="pt-BR" sz="1600" spc="-1" strike="noStrike" u="sng">
                <a:solidFill>
                  <a:srgbClr val="cc0000"/>
                </a:solidFill>
                <a:uFillTx/>
                <a:latin typeface="Arial"/>
                <a:ea typeface="Times New Roman"/>
              </a:rPr>
              <a:t>RURA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Imagem 1" descr=""/>
          <p:cNvPicPr/>
          <p:nvPr/>
        </p:nvPicPr>
        <p:blipFill>
          <a:blip r:embed="rId1"/>
          <a:stretch/>
        </p:blipFill>
        <p:spPr>
          <a:xfrm>
            <a:off x="0" y="860400"/>
            <a:ext cx="12144240" cy="49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2"/>
          <p:cNvSpPr/>
          <p:nvPr/>
        </p:nvSpPr>
        <p:spPr>
          <a:xfrm>
            <a:off x="0" y="185760"/>
            <a:ext cx="1084896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Resultado do RGPS – Média móvel de 12 meses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(Janeiro/2003 a dezembro/2018)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Em R$ bilhões de dezembro/2018 (INPC)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ext Box 3"/>
          <p:cNvSpPr/>
          <p:nvPr/>
        </p:nvSpPr>
        <p:spPr>
          <a:xfrm>
            <a:off x="334800" y="6453360"/>
            <a:ext cx="5562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onte: Fluxo de Caixa INSS; Informar/DATAPREV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ção: SPREV/MECON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Imagem 1" descr=""/>
          <p:cNvPicPr/>
          <p:nvPr/>
        </p:nvPicPr>
        <p:blipFill>
          <a:blip r:embed="rId1"/>
          <a:stretch/>
        </p:blipFill>
        <p:spPr>
          <a:xfrm>
            <a:off x="0" y="762120"/>
            <a:ext cx="12125160" cy="5132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2"/>
          <p:cNvSpPr/>
          <p:nvPr/>
        </p:nvSpPr>
        <p:spPr>
          <a:xfrm>
            <a:off x="1523880" y="981000"/>
            <a:ext cx="914400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RESULTADO DO RGP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2018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CaixaDeTexto 1"/>
          <p:cNvSpPr/>
          <p:nvPr/>
        </p:nvSpPr>
        <p:spPr>
          <a:xfrm>
            <a:off x="1623600" y="463680"/>
            <a:ext cx="876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Participação do RGPS na despesa primária do governo central – em % do total – 2010 e 201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Gráfico 4" descr=""/>
          <p:cNvPicPr/>
          <p:nvPr/>
        </p:nvPicPr>
        <p:blipFill>
          <a:blip r:embed="rId1"/>
          <a:stretch/>
        </p:blipFill>
        <p:spPr>
          <a:xfrm>
            <a:off x="2066760" y="828720"/>
            <a:ext cx="8163000" cy="4790880"/>
          </a:xfrm>
          <a:prstGeom prst="rect">
            <a:avLst/>
          </a:prstGeom>
          <a:ln w="0">
            <a:noFill/>
          </a:ln>
        </p:spPr>
      </p:pic>
      <p:sp>
        <p:nvSpPr>
          <p:cNvPr id="101" name="Retângulo 2"/>
          <p:cNvSpPr/>
          <p:nvPr/>
        </p:nvSpPr>
        <p:spPr>
          <a:xfrm>
            <a:off x="1940040" y="5707080"/>
            <a:ext cx="6095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onte/Elaboração: SPREV/MECO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1523880" y="2060640"/>
            <a:ext cx="9144000" cy="21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BENEFÍCIOS EMITIDOS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(ESTOQUE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2"/>
          <p:cNvSpPr/>
          <p:nvPr/>
        </p:nvSpPr>
        <p:spPr>
          <a:xfrm>
            <a:off x="47520" y="147600"/>
            <a:ext cx="96249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Quantidade de Benefícios Emitidos – RGPS –</a:t>
            </a:r>
            <a:r>
              <a:rPr b="1" lang="pt-BR" sz="1600" spc="-1" strike="noStrike">
                <a:solidFill>
                  <a:srgbClr val="cc0000"/>
                </a:solidFill>
                <a:latin typeface="Arial"/>
                <a:ea typeface="Times New Roman"/>
              </a:rPr>
              <a:t> Dezembro</a:t>
            </a:r>
            <a:r>
              <a:rPr b="1" lang="pt-BR" sz="1600" spc="-1" strike="noStrike">
                <a:solidFill>
                  <a:srgbClr val="cc0000"/>
                </a:solidFill>
                <a:latin typeface="Arial"/>
              </a:rPr>
              <a:t>/2017, Novembro</a:t>
            </a:r>
            <a:r>
              <a:rPr b="1" lang="pt-BR" sz="1600" spc="-1" strike="noStrike">
                <a:solidFill>
                  <a:srgbClr val="cc0000"/>
                </a:solidFill>
                <a:latin typeface="Arial"/>
                <a:ea typeface="Times New Roman"/>
              </a:rPr>
              <a:t>/2018 e Dezembro/2018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47520" y="5987880"/>
            <a:ext cx="8058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ontes: Anuário Estatístico da Previdência Social - AEPS; Boletim Estatístico da Previdência Social – BEPS.  Elaboração: SPREV/MECON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Obs.: Os benefícios assistenciais, embora operacionalizados pelo INSS, estão sob a </a:t>
            </a: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responsabilidade do Ministério da Cidadan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Imagem 1" descr=""/>
          <p:cNvPicPr/>
          <p:nvPr/>
        </p:nvPicPr>
        <p:blipFill>
          <a:blip r:embed="rId1"/>
          <a:stretch/>
        </p:blipFill>
        <p:spPr>
          <a:xfrm>
            <a:off x="0" y="507960"/>
            <a:ext cx="11952360" cy="5473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0" y="138240"/>
            <a:ext cx="114998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Quantidade de Benefícios Emitidos – RGPS –</a:t>
            </a:r>
            <a:r>
              <a:rPr b="1" lang="pt-BR" sz="1600" spc="-1" strike="noStrike">
                <a:solidFill>
                  <a:srgbClr val="cc0000"/>
                </a:solidFill>
                <a:latin typeface="Arial"/>
                <a:ea typeface="Times New Roman"/>
              </a:rPr>
              <a:t> </a:t>
            </a:r>
            <a:r>
              <a:rPr b="1" lang="pt-BR" sz="1600" spc="-1" strike="noStrike">
                <a:solidFill>
                  <a:srgbClr val="cc0000"/>
                </a:solidFill>
                <a:latin typeface="Arial"/>
              </a:rPr>
              <a:t>1998 e 2018 (</a:t>
            </a:r>
            <a:r>
              <a:rPr b="1" lang="pt-BR" sz="1600" spc="-1" strike="noStrike">
                <a:solidFill>
                  <a:srgbClr val="cc0000"/>
                </a:solidFill>
                <a:latin typeface="Arial"/>
                <a:ea typeface="Times New Roman"/>
              </a:rPr>
              <a:t>Dezembro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0" y="5996160"/>
            <a:ext cx="7808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ontes: Anuário Estatístico da Previdência Social - AEPS; Boletim Estatístico da Previdência Social – BEPS.  Elaboração: SPREV/MECON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Obs.: Os benefícios assistenciais, embora operacionalizados pelo INSS, estão sob a </a:t>
            </a: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responsabilidade do Ministério da Cidadan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Imagem 1" descr=""/>
          <p:cNvPicPr/>
          <p:nvPr/>
        </p:nvPicPr>
        <p:blipFill>
          <a:blip r:embed="rId1"/>
          <a:stretch/>
        </p:blipFill>
        <p:spPr>
          <a:xfrm>
            <a:off x="47520" y="614520"/>
            <a:ext cx="11881080" cy="526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2"/>
          <p:cNvSpPr/>
          <p:nvPr/>
        </p:nvSpPr>
        <p:spPr>
          <a:xfrm>
            <a:off x="4680" y="563400"/>
            <a:ext cx="12047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Entre dezembro de 2008 e dezembro de 2018, a quantidade de benefícios previdenciários e acidentários emitidos pela Previdência aumentou 32,9%, passando de 22,8 milhões para 30,3 milhõ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Rectangle 3"/>
          <p:cNvSpPr/>
          <p:nvPr/>
        </p:nvSpPr>
        <p:spPr>
          <a:xfrm>
            <a:off x="4680" y="203040"/>
            <a:ext cx="11125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Evolução da Quantidade de Benefícios Emitidos pela Previdência Social</a:t>
            </a:r>
            <a:r>
              <a:rPr b="1" i="1" lang="pt-BR" sz="1600" spc="-1" strike="noStrike">
                <a:solidFill>
                  <a:srgbClr val="ed7d31"/>
                </a:solidFill>
                <a:latin typeface="Arial"/>
                <a:ea typeface="Times New Roman"/>
              </a:rPr>
              <a:t> </a:t>
            </a:r>
            <a:br>
              <a:rPr sz="1600"/>
            </a:br>
            <a:r>
              <a:rPr b="1" lang="pt-BR" sz="1600" spc="-1" strike="noStrike">
                <a:solidFill>
                  <a:srgbClr val="cc0000"/>
                </a:solidFill>
                <a:latin typeface="Arial"/>
                <a:ea typeface="Times New Roman"/>
              </a:rPr>
              <a:t>Em milhões de benefícios - 2008 a 2018 (dezembro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 Box 4"/>
          <p:cNvSpPr/>
          <p:nvPr/>
        </p:nvSpPr>
        <p:spPr>
          <a:xfrm>
            <a:off x="4680" y="6059520"/>
            <a:ext cx="7796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ontes: Anuário Estatístico da Previdência Social - AEPS; Boletim Estatístico da Previdência Social – BEPS. Elaboração: SPREV/MECON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Obs.: Os benefícios assistenciais, embora operacionalizados pelo INSS, estão sob a </a:t>
            </a: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responsabilidade do Ministério da Cidadan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Imagem 1" descr=""/>
          <p:cNvPicPr/>
          <p:nvPr/>
        </p:nvPicPr>
        <p:blipFill>
          <a:blip r:embed="rId1"/>
          <a:stretch/>
        </p:blipFill>
        <p:spPr>
          <a:xfrm>
            <a:off x="4680" y="1123920"/>
            <a:ext cx="12139560" cy="4832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"/>
          <p:cNvPicPr/>
          <p:nvPr/>
        </p:nvPicPr>
        <p:blipFill>
          <a:blip r:embed="rId1"/>
          <a:stretch/>
        </p:blipFill>
        <p:spPr>
          <a:xfrm>
            <a:off x="992160" y="334800"/>
            <a:ext cx="9698040" cy="558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2"/>
          <p:cNvSpPr/>
          <p:nvPr/>
        </p:nvSpPr>
        <p:spPr>
          <a:xfrm>
            <a:off x="1523880" y="2492280"/>
            <a:ext cx="910764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BENEFÍCIOS CONCEDIDOS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(FLUXO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2"/>
          <p:cNvSpPr/>
          <p:nvPr/>
        </p:nvSpPr>
        <p:spPr>
          <a:xfrm>
            <a:off x="6480" y="136440"/>
            <a:ext cx="95454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Quantidade de Benefícios Concedidos – RGP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cc0000"/>
                </a:solidFill>
                <a:latin typeface="Arial"/>
                <a:ea typeface="Times New Roman"/>
              </a:rPr>
              <a:t>Dezembro/2017, Novembro/2018, Dezembro/2018 e Acumulado no ano (2017 e 2018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0" y="6149880"/>
            <a:ext cx="6622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ontes: Anuário Estatístico da Previdência Social - AEPS; Boletim Estatístico da Previdência Social – BEPS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ção: SPREV/MECON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Imagem 1" descr=""/>
          <p:cNvPicPr/>
          <p:nvPr/>
        </p:nvPicPr>
        <p:blipFill>
          <a:blip r:embed="rId1"/>
          <a:stretch/>
        </p:blipFill>
        <p:spPr>
          <a:xfrm>
            <a:off x="0" y="657360"/>
            <a:ext cx="12185640" cy="54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2"/>
          <p:cNvSpPr/>
          <p:nvPr/>
        </p:nvSpPr>
        <p:spPr>
          <a:xfrm>
            <a:off x="0" y="157320"/>
            <a:ext cx="106426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Quantidade de Benefícios Concedidos pela Previdência Social (2010 a 2018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br>
              <a:rPr sz="2400"/>
            </a:br>
            <a:r>
              <a:rPr b="1" lang="pt-BR" sz="1600" spc="-1" strike="noStrike">
                <a:solidFill>
                  <a:srgbClr val="cc0000"/>
                </a:solidFill>
                <a:latin typeface="Arial"/>
                <a:ea typeface="Times New Roman"/>
              </a:rPr>
              <a:t>Acumulado de Janeiro a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pt-BR" sz="1600" spc="-1" strike="noStrike">
                <a:solidFill>
                  <a:srgbClr val="cc0000"/>
                </a:solidFill>
                <a:latin typeface="Arial"/>
                <a:ea typeface="Times New Roman"/>
              </a:rPr>
              <a:t>Dezembro de cada ano ( 2010 a 2018) – </a:t>
            </a:r>
            <a:r>
              <a:rPr b="1" lang="pt-BR" sz="1600" spc="-1" strike="noStrike">
                <a:solidFill>
                  <a:srgbClr val="cc0000"/>
                </a:solidFill>
                <a:latin typeface="Arial"/>
              </a:rPr>
              <a:t>Em milhares de benefício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Text Box 3"/>
          <p:cNvSpPr/>
          <p:nvPr/>
        </p:nvSpPr>
        <p:spPr>
          <a:xfrm>
            <a:off x="87480" y="6099120"/>
            <a:ext cx="65926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ontes: Anuário Estatístico da Previdência Social - AEPS; Boletim Estatístico da Previdência Social – BEPS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ção: SPREV/MECON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Imagem 1" descr=""/>
          <p:cNvPicPr/>
          <p:nvPr/>
        </p:nvPicPr>
        <p:blipFill>
          <a:blip r:embed="rId1"/>
          <a:stretch/>
        </p:blipFill>
        <p:spPr>
          <a:xfrm>
            <a:off x="0" y="757080"/>
            <a:ext cx="12144240" cy="514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15840" y="144360"/>
            <a:ext cx="95360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RESULTADO DO RGPS –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Em R$ milhões nominai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0" y="6423120"/>
            <a:ext cx="5562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onte: Fluxo de Caixa INSS; Informar/DATAPREV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ção: SPREV/MECON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Imagem 1" descr=""/>
          <p:cNvPicPr/>
          <p:nvPr/>
        </p:nvPicPr>
        <p:blipFill>
          <a:blip r:embed="rId1"/>
          <a:stretch/>
        </p:blipFill>
        <p:spPr>
          <a:xfrm>
            <a:off x="15840" y="907920"/>
            <a:ext cx="12176280" cy="5121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154080" y="130320"/>
            <a:ext cx="93898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RESULTADO DO RGPS –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Em R$ milhões de Dezembro de 2018 (INPC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0" y="6485040"/>
            <a:ext cx="5562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onte: Fluxo de Caixa INSS; Informar/DATAPREV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ção: SPREV/MECON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Imagem 1" descr=""/>
          <p:cNvPicPr/>
          <p:nvPr/>
        </p:nvPicPr>
        <p:blipFill>
          <a:blip r:embed="rId1"/>
          <a:stretch/>
        </p:blipFill>
        <p:spPr>
          <a:xfrm>
            <a:off x="0" y="907920"/>
            <a:ext cx="12192120" cy="517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2"/>
          <p:cNvSpPr/>
          <p:nvPr/>
        </p:nvSpPr>
        <p:spPr>
          <a:xfrm>
            <a:off x="1560600" y="1052640"/>
            <a:ext cx="91440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ARRECADAÇÃO LÍQUIDA,  DESPESA COM BENEFÍCIOS E RESULTADO PREVIDENCIÁRIO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URBAN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3"/>
          <p:cNvSpPr/>
          <p:nvPr/>
        </p:nvSpPr>
        <p:spPr>
          <a:xfrm>
            <a:off x="3240" y="147600"/>
            <a:ext cx="101995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rrecadação Líquida, Despesa com Benefícios e Resultado Previdenciário – </a:t>
            </a:r>
            <a:r>
              <a:rPr b="1" lang="pt-BR" sz="1600" spc="-1" strike="noStrike" u="sng">
                <a:solidFill>
                  <a:srgbClr val="cc0000"/>
                </a:solidFill>
                <a:uFillTx/>
                <a:latin typeface="Arial"/>
                <a:ea typeface="Times New Roman"/>
              </a:rPr>
              <a:t>URBAN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000000"/>
                </a:solidFill>
                <a:latin typeface="Arial"/>
              </a:rPr>
              <a:t>Dezembro/2017, Novembro e Dezembro de 2018 e Acumulado no ano (2017 e 2018) </a:t>
            </a:r>
            <a:r>
              <a:rPr b="1" lang="pt-BR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– Em R$ milhões nominai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 Box 3"/>
          <p:cNvSpPr/>
          <p:nvPr/>
        </p:nvSpPr>
        <p:spPr>
          <a:xfrm>
            <a:off x="3240" y="6481800"/>
            <a:ext cx="3097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onte: Fluxo de Caixa INSS; Informar/DATAPREV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ção: SPREV/MECON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Imagem 1" descr=""/>
          <p:cNvPicPr/>
          <p:nvPr/>
        </p:nvPicPr>
        <p:blipFill>
          <a:blip r:embed="rId1"/>
          <a:stretch/>
        </p:blipFill>
        <p:spPr>
          <a:xfrm>
            <a:off x="119160" y="797040"/>
            <a:ext cx="11709360" cy="52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2"/>
          <p:cNvSpPr/>
          <p:nvPr/>
        </p:nvSpPr>
        <p:spPr>
          <a:xfrm>
            <a:off x="82440" y="125280"/>
            <a:ext cx="110221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rrecadação Líquida, Despesa com Benefícios e Resultado Previdenciário – </a:t>
            </a:r>
            <a:r>
              <a:rPr b="1" lang="pt-BR" sz="1600" spc="-1" strike="noStrike" u="sng">
                <a:solidFill>
                  <a:srgbClr val="cc0000"/>
                </a:solidFill>
                <a:uFillTx/>
                <a:latin typeface="Arial"/>
                <a:ea typeface="Times New Roman"/>
              </a:rPr>
              <a:t>URBAN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Dezembro/2017, Novembro e Dezembro de 2018 e Acumulado no ano  (2017 e 2018) – Em R$ milhões de dezembro/2018 (INPC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 Box 3"/>
          <p:cNvSpPr/>
          <p:nvPr/>
        </p:nvSpPr>
        <p:spPr>
          <a:xfrm>
            <a:off x="0" y="6450120"/>
            <a:ext cx="7885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onte: Fluxo de Caixa INSS; Informar/DATAPREV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ção: SPREV/MECON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Imagem 1" descr=""/>
          <p:cNvPicPr/>
          <p:nvPr/>
        </p:nvPicPr>
        <p:blipFill>
          <a:blip r:embed="rId1"/>
          <a:stretch/>
        </p:blipFill>
        <p:spPr>
          <a:xfrm>
            <a:off x="0" y="903240"/>
            <a:ext cx="11928600" cy="521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2"/>
          <p:cNvSpPr/>
          <p:nvPr/>
        </p:nvSpPr>
        <p:spPr>
          <a:xfrm>
            <a:off x="1560600" y="1052640"/>
            <a:ext cx="91440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ARRECADAÇÃO LÍQUIDA,  DESPESA COM BENEFÍCIOS E RESULTADO PREVIDENCIÁRIO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RURA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125280" y="114480"/>
            <a:ext cx="115729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rrecadação Líquida, Despesa com Benefícios e Resultado Previdenciário – </a:t>
            </a:r>
            <a:r>
              <a:rPr b="1" lang="pt-BR" sz="1600" spc="-1" strike="noStrike" u="sng">
                <a:solidFill>
                  <a:srgbClr val="cc0000"/>
                </a:solidFill>
                <a:uFillTx/>
                <a:latin typeface="Arial"/>
                <a:ea typeface="Times New Roman"/>
              </a:rPr>
              <a:t>RURA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Dezembro/2017, Novembro e Dezembro de 2018 e Acumulado no ano (2017 e 2018) – Em R$ milhões nominai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 Box 3"/>
          <p:cNvSpPr/>
          <p:nvPr/>
        </p:nvSpPr>
        <p:spPr>
          <a:xfrm>
            <a:off x="316080" y="6381720"/>
            <a:ext cx="363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onte: Fluxo de Caixa INSS; Informar/DATAPREV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ção: SPREV/MECON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Imagem 1" descr=""/>
          <p:cNvPicPr/>
          <p:nvPr/>
        </p:nvPicPr>
        <p:blipFill>
          <a:blip r:embed="rId1"/>
          <a:stretch/>
        </p:blipFill>
        <p:spPr>
          <a:xfrm>
            <a:off x="125280" y="976320"/>
            <a:ext cx="1204596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08T13:56:17Z</dcterms:created>
  <dc:creator>Jamil Miranda Ghani</dc:creator>
  <dc:description/>
  <dc:language>en-US</dc:language>
  <cp:lastModifiedBy>Silvana do Socorro Machado Rodrigues - MPS</cp:lastModifiedBy>
  <cp:lastPrinted>2019-02-28T11:12:21Z</cp:lastPrinted>
  <dcterms:modified xsi:type="dcterms:W3CDTF">2019-02-28T11:19:36Z</dcterms:modified>
  <cp:revision>28</cp:revision>
  <dc:subject/>
  <dc:title>Apresentação do PowerPoint</dc:title>
</cp:coreProperties>
</file>